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lick.wav" ContentType="audio/x-wav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9A15-C101-406E-A960-9DFD34E52B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7059-F18C-4008-9EA3-C668D27C86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414-EDA9-4115-851D-8A55CABE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C70-7A32-4CAC-ACC2-9130DDD5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5AF-ABAF-407A-9D98-800E3CBE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B2F-329A-45A5-AE06-7BEAC57B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232-5712-4D7A-A132-3B829B9F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BD3-ACD6-42FC-BE12-C8E288AD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91F-A66F-40A4-A247-D24D6635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A3F-A365-4DEC-82F6-742445C7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C74-F2A6-47CA-919F-7D10932D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177-F98D-4D79-BA16-789FD81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D13-9D39-45F1-A849-5CBDBEA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00D-B9A4-4079-91A5-873A088D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C135-EEF8-4582-A640-D4A61DF0EC2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395200" y="409320"/>
            <a:ext cx="282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BC97-69D6-48F0-BE4F-78706FE9FD8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786280" y="428760"/>
            <a:ext cx="142884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785880" y="1643040"/>
          <a:ext cx="3214800" cy="73188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Istituto italiano per gli studi filosofi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000760" y="1571760"/>
          <a:ext cx="3466800" cy="731880"/>
        </p:xfrm>
        <a:graphic>
          <a:graphicData uri="http://schemas.openxmlformats.org/drawingml/2006/table">
            <a:tbl>
              <a:tblPr/>
              <a:tblGrid>
                <a:gridCol w="34668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Associazione etnea studi storico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Viner Hand ITC"/>
                          <a:ea typeface="Times New Roman"/>
                        </a:rPr>
                        <a:t>filosofi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3"/>
          <p:cNvSpPr/>
          <p:nvPr/>
        </p:nvSpPr>
        <p:spPr>
          <a:xfrm>
            <a:off x="714240" y="2835720"/>
            <a:ext cx="7858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9 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0 Marzo 2009, ore 16 - 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Liceo socio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psico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pedagogic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 G. Turrisi Colonn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DfW Printer"/>
                <a:ea typeface="Times New Roman"/>
              </a:rPr>
              <a:t>via F. Filzi, 24 (piazza Montessori) Cat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3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, 6, 1106a  14-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Similmente la virtù del cavallo rende il cavallo di valore e buono per la corsa, per portare il suo cavaliere e per resistere ai nem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Se dunque questo vale per tutti i casi, anche la virtù dell’uomo deve essere quella disposizione per cui l’uomo diventa buono e per cui compie bene la sua funzi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6802-4942-47EA-9387-CC305CBBE33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8,1099a 15-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La vita di costoro non ha bisogno del piacere come di qualcosa di accessorio, ma ha il piacere in se stessa. […]</a:t>
            </a:r>
            <a:r>
              <a:rPr b="1" i="1" lang="it-IT" sz="3200" spc="-1" strike="noStrike" baseline="-25000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Non è buono chi non compie con piacere le azioni buone; infatti nessuno direbbe giusto chi non compie con piacere azioni giuste, né liberale chi non compie con piacere azioni liberali; lo stesso vale per le altre azioni bu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F6EB-EDE6-4DA7-B95C-FE4259E0DF0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8,1099a 15-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E se è così, le azioni secondo virtù saranno piacevoli per se stesse. Ma saranno di certo anche buone e belle, e in massimo grado piacevoli, buone e belle, se è vero che giudica bene di loro l’uomo di valo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655C-99C9-46C1-8CD1-DB9B0D2F528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6, 1176b 34-1176a 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In effetti, il divertimento è simile al riposo, giacché gli uomini, non potendo affaticarsi in continuazione, hanno bisogno di ripo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Il riposo non è, quindi, il fine, giacché ha luogo in funzione dell’attività (οὐ δὴ τέλος ἀνάπαυσις˙ ἡ γίνεται γὰρ ἕνεκα [in vista di] τῆς ἐνέργειας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C258-1147-4074-9F58-AFAFBA6E1AA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6, 1176b 34-1176a 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Si ritiene, poi, che la vita felice sia conforme a virtù; e questa vita implica seria applicazione (…), e non consiste nel divertimento. Noi diciamo che le cose serie sono migliori di quelle fatte per ridere e per divertimento, e che, in ogni caso, l’attività della parte migliore dell’anima e dell’uomo più buono è quella di maggior valore; e l’attività del migliore è perciò stesso superiore e più idonea a procurare la felicità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CCE3-DB7C-426B-BBBD-93E47190577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X, 9, 1169a  29-30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Verdana"/>
                <a:ea typeface="Verdana"/>
              </a:rPr>
              <a:t>La felicità consiste in un’attività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Verdana"/>
                <a:ea typeface="Verdana"/>
              </a:rPr>
              <a:t>ma è chiaro che l’attività è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3399"/>
                </a:solidFill>
                <a:latin typeface="Verdana"/>
                <a:ea typeface="Verdana"/>
              </a:rPr>
              <a:t>divenire e non un possesso stabile.</a:t>
            </a: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ἠ εὐδαιμονία ἐνέργεια τις εστίν, ἠ δ’ἐνέργεια δῆλον ὅτι γίνεται καὶ οὐκ ὑπάρχει ὥσπερ κτῆμὰ τ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AFE4-4E6D-4AA3-9C35-CD770B02B65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primato della “vita contemplati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l significato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metafisic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dell’atteggiamento contempla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ricadut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essenziale e non accessoria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i tale atteggiamento sulle nostre azion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sulla nostra 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B223-F512-4498-BA4B-36EFDB47562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I, 7, 1141a 20 – 1141b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E’ assurdo pensare che la politica e la saggezza siano la forma più alta di conoscenza, se è vero che l’uomo non è la realtà di maggior valore nell’universo. […] Se poi si dice che l’uomo è superiore a tutti gli altri animali, non cambia niente, giacché ci sono altre realtà di natura ben più divina dell’uomo […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0C47-02CA-46FD-B941-7278335E596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7, 1177b 27-1178a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Ma una vita di questo tipo sarà troppo elevata per l’uomo: infatti, </a:t>
            </a: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non vivrà così in quanto è uomo, bensì in quanto c’è in lui qualcosa di divino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; e di quanto questo elemento divino eccelle sulla composita natura umana, di tanto la sua attività eccelle sull’attività conforme all’altro tipo di virt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7DDA-157A-48F2-A21E-D9E2E13A446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7, 1177b 27-1178a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Se, dunque, l’intelletto in confronto con l’uomo è una realtà divina, anche l’attività secondo l’intelletto sarà divina in confronto con la vita umana.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M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non bisogna dar retta a coloro che consigliano all’uomo, poiché è uomo mortale, di limitarsi a pensare cose umane e mortali; anzi, al contrario, per quanto è possibile, bisogna comportarsi da immortali e far di tutto per vivere secondo la parte più nobile che è in no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1912-6ACA-47F3-A833-1DEBA7D80DB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8267760" y="410040"/>
            <a:ext cx="40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52B6-3DDD-495B-87F3-38406168597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387360"/>
            <a:ext cx="9028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cezione aristotelica della polit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e scienza della pr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'attualità di una proposta “inattua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La politica, scienza architettonica della pr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"Poiesi" e "prassi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L'etica-politica scienza di ciò che l'uomo de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s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Le categorie fondamentali della poli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L'originaria costituzione intersogget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l'uomo: "amicizia" e "giustizia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La vita buona: vita teoretica e vita at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7, 1177b 27-1178a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868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Infatti, sebbene per la sua massa sia piccola, per potenza e per valore è molto superiore a tutte le altre. Si ammetterà, poi, che ogni uomo di identifica con questa parte, se è vero che è la sua parte principale e migliore. Sarebbe allora assurdo che egli non scegliesse la vita che gli è propria ma quella che è propria di qualcun altr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07F-7569-4A2E-8F50-6C17DFF0BED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ica Nicomachea,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7, 1177b 27-1178a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135720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Ciò che abbiamo detto prima verrà a proposito anche ora: ciò, infatti, che per natura è proprio di ciascun essere, è per lui per natura la cosa più buona e più piacevole; e per l’uomo, quindi, questa cosa sarà la vita secondo l’intelletto, se è vero che l’uomo è soprattutto intelletto. Questa vita, dunque, sarà anche la più fel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8C2C-1ED4-4908-AA0B-2AC844501D2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695240" y="404280"/>
            <a:ext cx="69822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Times New Roman"/>
              </a:rPr>
              <a:t>Denn diese Alten waren solid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Times New Roman"/>
              </a:rPr>
              <a:t>als man den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3796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G.W. Leibniz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706F-5071-44EE-AABE-2C631F2C0AA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480" y="3571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stotele […] è comprensivo e speculativo come nessun altro filosofo, sebbene non proceda in modo sistematico. […] Nessun altro filosofo è stato altrettanto dimenticato dai moderni, e a nessun altro degli antichi siamo perciò altrettanto debitori di riparazione. […] Se la filosofia venisse presa sul serio, non vi sarebbe cosa più degna che tenere un corso di lezioni su Aristotele, il più degno di essere studiato, fra gli antichi  filosof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egnaposto numero diapositiva 3"/>
          <p:cNvSpPr/>
          <p:nvPr/>
        </p:nvSpPr>
        <p:spPr>
          <a:xfrm>
            <a:off x="8358120" y="6215040"/>
            <a:ext cx="57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3AFD-B142-4837-BB41-C7EDEB06678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539640" y="549360"/>
          <a:ext cx="835344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3534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3F2-B38D-4B26-A280-E295A3F8804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68360" y="620640"/>
          <a:ext cx="8136000" cy="5992920"/>
        </p:xfrm>
        <a:graphic>
          <a:graphicData uri="http://schemas.openxmlformats.org/drawingml/2006/table">
            <a:tbl>
              <a:tblPr/>
              <a:tblGrid>
                <a:gridCol w="2087640"/>
                <a:gridCol w="2663640"/>
                <a:gridCol w="1800360"/>
                <a:gridCol w="1584360"/>
              </a:tblGrid>
              <a:tr h="126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ipo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ci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gge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n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cerca il sap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ci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rticol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</a:tr>
              <a:tr h="1574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eore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getti la cui esistenza non dipende dall’uo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 se stes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osofia pr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ma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</a:tr>
              <a:tr h="157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oie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getti la cui esistenza dipende dall’uo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vista della modifica o produzione di un ogge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 uti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 b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</a:tr>
              <a:tr h="1573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ra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i tra i sogge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guida per l’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tica-polit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e8a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7" name="Segnaposto numero diapositiva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84BC-59EA-4F8F-BB4E-F312AB55F7B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23880" y="1397160"/>
          <a:ext cx="6096240" cy="4790880"/>
        </p:xfrm>
        <a:graphic>
          <a:graphicData uri="http://schemas.openxmlformats.org/drawingml/2006/table">
            <a:tbl>
              <a:tblPr/>
              <a:tblGrid>
                <a:gridCol w="2032200"/>
                <a:gridCol w="4064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e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scienza del bene per l’uomo inteso come individuo</a:t>
                      </a:r>
                      <a:r>
                        <a:rPr b="1" lang="it-IT" sz="16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nomote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scienza della legislazione</a:t>
                      </a:r>
                      <a:r>
                        <a:rPr b="0" lang="it-IT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8a9"/>
                    </a:solidFill>
                  </a:tcPr>
                </a:tc>
              </a:tr>
              <a:tr h="825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politica  (dottrina dello Stato)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7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la</a:t>
                      </a: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ostituzione migliore in senso assoluto</a:t>
                      </a: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la costituzione migliore entro certe condizioni date</a:t>
                      </a: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la</a:t>
                      </a: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ostituzione che si adatta meglio a tutte le città</a:t>
                      </a:r>
                      <a:r>
                        <a:rPr b="0" lang="it-IT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quante e quali sono le costituzioni storiche</a:t>
                      </a:r>
                      <a:r>
                        <a:rPr b="0" lang="it-IT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Text Box 79"/>
          <p:cNvSpPr/>
          <p:nvPr/>
        </p:nvSpPr>
        <p:spPr>
          <a:xfrm>
            <a:off x="2627280" y="189000"/>
            <a:ext cx="352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a politica: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rut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5759-CE51-4F77-B71D-9EF2586B158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a “legge di Hum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è” – “non è” sono relazioni del tutto diverse da “deve” – “non dev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qui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non è legitti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passare dall’essere al dover-essere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vv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dedurre il valore dall’ess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9BD4-5729-4D6D-BD2C-060436D87D8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4d"/>
            </a:gs>
            <a:gs pos="50000">
              <a:srgbClr val="f7f7a7"/>
            </a:gs>
            <a:gs pos="100000">
              <a:srgbClr val="7272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tica Nicomache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, 6, 1106a  14-2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[O]gni virtù ha come effetto, su ciò di cui è virtù, di metterlo in buono stato e di permettergli di compiere bene la sua funzione specifica: per esempio,la virtù dell’occhio rende valenti l’occhio e la sua funzione specifica: noi, infatti, vediamo bene per la virtù dell’occh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B33C-66B7-4359-9512-531D1AEBEF6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8:27:45Z</dcterms:created>
  <dc:creator>User name placeholder</dc:creator>
  <dc:description/>
  <dc:language>en-US</dc:language>
  <cp:lastModifiedBy>User</cp:lastModifiedBy>
  <dcterms:modified xsi:type="dcterms:W3CDTF">2009-03-17T10:35:11Z</dcterms:modified>
  <cp:revision>70</cp:revision>
  <dc:subject/>
  <dc:title>La politica di Aristotele</dc:title>
</cp:coreProperties>
</file>